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B1860-FCD5-4D8A-A578-B8775F93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BE05A-0210-43FD-89C7-935C7647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B75EF-F7F4-4B59-8D2B-9F985066E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D8696-3A67-4B45-B2E1-1027BF5BA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AD3B-B9CD-4694-A95A-AF50CAE4B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5BFC-41FF-42E7-A32D-912D86B33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D51D-3331-4837-B2F8-0E18C331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7C89-4C68-4C20-B29F-5C00F8D3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E5EF4-52EA-473F-9FDC-E2185206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4E6BE-61B8-403F-9488-F1E489BA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6089-5F49-4EE9-84DB-8FF3B287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7F72-217B-4775-B839-34DC5A029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ACC8-61A2-4FB8-A84D-70B873158F1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41" name="Immagine 3" descr="piaget.jpg"/>
          <p:cNvPicPr/>
          <p:nvPr/>
        </p:nvPicPr>
        <p:blipFill>
          <a:blip r:embed="rId1"/>
          <a:stretch/>
        </p:blipFill>
        <p:spPr>
          <a:xfrm>
            <a:off x="2700360" y="2637000"/>
            <a:ext cx="3170160" cy="3886200"/>
          </a:xfrm>
          <a:prstGeom prst="rect">
            <a:avLst/>
          </a:prstGeom>
          <a:ln w="0">
            <a:noFill/>
          </a:ln>
        </p:spPr>
      </p:pic>
      <p:pic>
        <p:nvPicPr>
          <p:cNvPr id="42" name="Rettangolo 4" descr=""/>
          <p:cNvPicPr/>
          <p:nvPr/>
        </p:nvPicPr>
        <p:blipFill>
          <a:blip r:embed="rId2"/>
          <a:stretch/>
        </p:blipFill>
        <p:spPr>
          <a:xfrm>
            <a:off x="-324000" y="433440"/>
            <a:ext cx="981576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3d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7030a0"/>
                </a:solidFill>
                <a:latin typeface="Elephant"/>
              </a:rPr>
              <a:t>La teoria piagetian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cognitiva piagetiana ha avuto e continua ad avere un profondo impatto sull’educazio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Si sviluppa su tre punti fondamentali:</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educativa</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cceleramento dello sviluppo</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Nuovi principi didatti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8000"/>
                </a:solidFill>
                <a:latin typeface="Elephant"/>
              </a:rPr>
              <a:t>Teoria educativ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e teorie di Gagnè possono essere combinate con la teoria pedagogica di Piaget. In particolare, la teoria piagetiana si usa per valutare le capacità cognitive del bambino. Analizzando il compito assegnato si può capire perché un bambino troppo piccolo non riesce a compiere tale eserciz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9b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Elephant"/>
              </a:rPr>
              <a:t>L’accelerazione dello sviluppo</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di Piaget suggerisce che certe esperienze possono essere costruite in modo da essere più utili allo sviluppo. Se capissimo davvero la natura dello sviluppo cognitivo, potremmo insegnare compiti più difficili ai bambini più piccoli, accelerando così lo svilup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781d"/>
                </a:solidFill>
                <a:latin typeface="Elephant"/>
              </a:rPr>
              <a:t>Principi educativ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o sviluppo dipende da 4 fattori fondamentali:</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Equilibratura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maturazione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esperienza attiva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maturazione sociale</a:t>
            </a:r>
            <a:endParaRPr b="0" lang="en-US" sz="3200" spc="-1" strike="noStrike">
              <a:solidFill>
                <a:srgbClr val="000000"/>
              </a:solidFill>
              <a:latin typeface="Calibri"/>
            </a:endParaRPr>
          </a:p>
        </p:txBody>
      </p:sp>
      <p:pic>
        <p:nvPicPr>
          <p:cNvPr id="51" name="Immagine 3" descr="Bimbo%20a%20scuola.gif"/>
          <p:cNvPicPr/>
          <p:nvPr/>
        </p:nvPicPr>
        <p:blipFill>
          <a:blip r:embed="rId1"/>
          <a:stretch/>
        </p:blipFill>
        <p:spPr>
          <a:xfrm>
            <a:off x="5364000" y="234936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fef5"/>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99"/>
                </a:solidFill>
                <a:latin typeface="Elephant"/>
              </a:rPr>
              <a:t>L’equilibratura piagetian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Per Piaget, le scuole dovrebbero fornire compiti che incoraggino l’equilibrio tra </a:t>
            </a:r>
            <a:r>
              <a:rPr b="0" lang="it-IT" sz="3200" spc="-1" strike="noStrike">
                <a:solidFill>
                  <a:srgbClr val="ff0000"/>
                </a:solidFill>
                <a:latin typeface="Elephant"/>
              </a:rPr>
              <a:t>assimilazione</a:t>
            </a:r>
            <a:r>
              <a:rPr b="0" lang="it-IT" sz="3200" spc="-1" strike="noStrike">
                <a:solidFill>
                  <a:srgbClr val="000000"/>
                </a:solidFill>
                <a:latin typeface="Elephant"/>
              </a:rPr>
              <a:t> e </a:t>
            </a:r>
            <a:r>
              <a:rPr b="0" lang="it-IT" sz="3200" spc="-1" strike="noStrike">
                <a:solidFill>
                  <a:srgbClr val="0000ff"/>
                </a:solidFill>
                <a:latin typeface="Elephant"/>
              </a:rPr>
              <a:t>accomodamento</a:t>
            </a:r>
            <a:r>
              <a:rPr b="0" lang="it-IT" sz="3200" spc="-1" strike="noStrike">
                <a:solidFill>
                  <a:srgbClr val="000000"/>
                </a:solidFill>
                <a:latin typeface="Elephant"/>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Immagine 3" descr="scuola_bambino-disegnoR375.jpg"/>
          <p:cNvPicPr/>
          <p:nvPr/>
        </p:nvPicPr>
        <p:blipFill>
          <a:blip r:embed="rId1"/>
          <a:stretch/>
        </p:blipFill>
        <p:spPr>
          <a:xfrm>
            <a:off x="1908000" y="3213000"/>
            <a:ext cx="4867560" cy="331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b9"/>
        </a:solidFill>
      </p:bgPr>
    </p:bg>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Elephant"/>
              </a:rPr>
              <a:t>Assimilazione</a:t>
            </a:r>
            <a:r>
              <a:rPr b="0" lang="it-IT" sz="3000" spc="-1" strike="noStrike">
                <a:solidFill>
                  <a:srgbClr val="000000"/>
                </a:solidFill>
                <a:latin typeface="Elephant"/>
              </a:rPr>
              <a:t>: il bambino adopera qualcosa del suo ambiente per un'attività che fa già parte del suo repertorio e che non viene modificata. (Ad esempio un bambino di pochi mesi che afferra un oggetto nuovo per batterlo sul pavimento: siccome le sue azioni di afferrare e battere sono già acquisite, ora per lui è importante sperimentarle col nuovo oggetto). Questo processo predomina nella prima fase di sviluppo.</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9bff"/>
        </a:solidFill>
      </p:bgPr>
    </p:bg>
    <p:spTree>
      <p:nvGrpSpPr>
        <p:cNvPr id="1" name=""/>
        <p:cNvGrpSpPr/>
        <p:nvPr/>
      </p:nvGrpSpPr>
      <p:grpSpPr>
        <a:xfrm>
          <a:off x="0" y="0"/>
          <a:ext cx="0" cy="0"/>
          <a:chOff x="0" y="0"/>
          <a:chExt cx="0" cy="0"/>
        </a:xfrm>
      </p:grpSpPr>
      <p:sp>
        <p:nvSpPr>
          <p:cNvPr id="56" name=""/>
          <p:cNvSpPr txBox="1"/>
          <p:nvPr/>
        </p:nvSpPr>
        <p:spPr>
          <a:xfrm>
            <a:off x="457200" y="620280"/>
            <a:ext cx="8229600" cy="5505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Elephant"/>
              </a:rPr>
              <a:t>Accomodamento</a:t>
            </a:r>
            <a:r>
              <a:rPr b="0" lang="it-IT" sz="2700" spc="-1" strike="noStrike">
                <a:solidFill>
                  <a:srgbClr val="000000"/>
                </a:solidFill>
                <a:latin typeface="Elephant"/>
              </a:rPr>
              <a:t>: Nella seconda fase invece prevale l'accomodamento, allorché il bambino può svolgere un'osservazione attiva sull'ambiente tentando altresì di dominarlo. Le vecchie risposte si modificano al contatto con eventi ambientali mutevoli (p.es. se il bambino precedente si accorge che l'oggetto da battere per terra è difficile da maneggiare, cercherà di coordinare meglio la presa dell'oggetto). Anche l'imitazione è una forma di accomodamento, poiché il bambino modifica se stesso in relazione agli stimoli dell'ambiente. Un buon adattamento all'ambiente si realizza quando assimilazione e accomodamento sono ben integrati tra lor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47:16Z</dcterms:created>
  <dc:creator>PASQUALE</dc:creator>
  <dc:description/>
  <dc:language>en-US</dc:language>
  <cp:lastModifiedBy>Laura Polenta</cp:lastModifiedBy>
  <dcterms:modified xsi:type="dcterms:W3CDTF">2011-05-13T14:17:08Z</dcterms:modified>
  <cp:revision>8</cp:revision>
  <dc:subject/>
  <dc:title>Diapositiva 1</dc:title>
</cp:coreProperties>
</file>